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8E8-91F3-4C72-B5D6-2C9BC164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410-A5CD-49EE-8DE3-1CEAECC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1AF-6B96-4B5C-B5F1-B31B140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46D-4838-4F2C-A21F-3229D06D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D9A1-3B80-4121-9033-787EE418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A21-E653-4354-A76C-0B91884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808-9A81-431D-A6C0-D5C1D09A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6462-69DB-46FB-939F-AE59D75C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8EEB-47F5-472A-BB74-8ECA842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7F71-202C-4932-8460-8B01753D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F9BD-FCA9-45B1-865B-88887B5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3A4-21A8-4B05-A6F4-AA7B60A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B24-BECE-4A08-9738-8FFD351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A4E9-6448-4E19-85CA-139589A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CA7A-12C9-4358-BFFA-C7E5D66C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3E13-A427-46B3-A9B8-4AAE0F6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26C5-2945-4009-B107-DB5742BC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73F-E23A-480C-AD5C-5701C54B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AEB-48FE-46EC-984C-FCBD65F6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91A-2C08-468E-8AEF-6D6BED70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A0C-3FC2-44B7-84B0-C947AC7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DE6-AA2B-4664-8043-EB5789B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F2B-5D79-48F2-9E1B-7ECA3501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A14-7F4C-4D89-9DF4-61F49F8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E49-4B78-48DA-8FC6-C8775D2AD0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9F6-9281-4ADE-8EC4-CF0BE97FBC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uses are exceptions to the cell theory, but they have some characteristics of living things. What is one of these characteristics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7:30Z</dcterms:created>
  <dc:creator>WaiverDay</dc:creator>
  <dc:description/>
  <dc:language>en-US</dc:language>
  <cp:lastModifiedBy>PritchaJ</cp:lastModifiedBy>
  <dcterms:modified xsi:type="dcterms:W3CDTF">2011-06-01T14:06:36Z</dcterms:modified>
  <cp:revision>2</cp:revision>
  <dc:subject/>
  <dc:title>Cell Theory Bellringer #1</dc:title>
</cp:coreProperties>
</file>